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6ADA-DCEF-43F5-B831-20237B904574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AE60-1F85-4869-AA3E-FB5F5C5DD0E5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plementa l’estremo prod del connettore pipe, cui si attaccano i driver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F9A4-F80D-4A76-95C8-0CC5D591DA83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prima catch è messa per ricordareche si serializ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8F93-AD95-435E-BA54-DCAD0A0E6F4A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plementa l’estremo consdel connettore pipe, cui si attaccano i driver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8E1B-8BD7-4F1E-AAB8-497C6CC34CDB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prima catch è messa per ricordare che si serializ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4BE0-00C3-4AAE-B605-31885A088F1B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ocediamo bottom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ACC0-8243-4E8E-AE86-85C867B66609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parametro pp (produce port) del costruttore individua il porto di origine dello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cast serve perché la in.get restituisce un oggetto. Pessima gestione degli err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4EA8-55D5-4264-B97D-1C58F8BB652E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parametri individuano il porto di destinazione dello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cast non  serve perché la out.get accetta oggetti (serializzabili!). Pessima gestione degli err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1C6B-8C03-4358-81DE-4B558F12E6DE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9C93-F763-4DB9-9B4E-3B5D31FD96F5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9082-26FD-42C0-A3B4-4D945092C138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83C1-78E8-40C6-A964-A550307AC507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0E7E-E67B-48FD-B2A3-FF71BF4CAB3C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753A-578A-4EAB-A6A4-5BADEB84758B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8DF3-7B36-4FE5-928C-2EC335769CCE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terfacciaUtente Questa componente riceve dal Cliente l'elemento da alternare e si compo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me un produttore per la componente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plit                   Questa è la componente che opera lo smist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ToLow                Questa è la componente che opera la trasformazione to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Merge                Questa è la componente che opera la fus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ToUp                  Questa è la componente che opera la trasformazione t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 rispetto del requisito non funzionale, si introducono due componenti distinte per 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era trasforma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er ulteriore flessibilità, anche per lo smistamento e la fusione degli elementi sono state introdo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ue componenti dist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3C5B-CF5F-4CF8-B02C-B658D9E83692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14D3-3DF6-4FDD-907A-BE4546459025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VC_Alternatore     Questa vista mostra la struttura C&amp;C del sistema Alternatore. Si tratta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un caso particolare di un pattern ben noto della computazione parallel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VS_Alternatore    Questo package contiene le viste strutturali dell'architettura del sist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VS_Pipe             Questo package contiene la vista strutturale della realizzazione Java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nnettore &lt;&lt;pipe&gt;&gt; con il supporto di socket alla comunic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VC_Pipe            Questo package contiene la vista comportamentale di un connet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&lt;pipe&gt;&gt; tra un generico produttore e un generico consu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8104-1FA2-4820-A1EB-333586C552A9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54000" y="887400"/>
            <a:ext cx="5192640" cy="3594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47520" y="4865760"/>
            <a:ext cx="5203800" cy="4309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esta vista mostra il generico contesto di una &lt;&lt;pipe&gt;&gt;: una componente produce, l'altra consu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connettore bufferizza i prodotti in attesa della richiesta da parte del consumatore, che, a sua vol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esta bloccato in mancanza di prodotti da utilizz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F573-E5B8-45AA-BECB-16BFAED7F61C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7EF-B2BB-475F-9535-C45BA347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4F5-83C4-4A57-A52B-39530568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EBC89-6A7E-4D3E-AE4D-239E1D5E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C14-9A98-48A2-97A0-04390CA5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5DB9-B478-49ED-82A6-09B735B4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85D9A-A179-4D8E-AE54-A0B7CD3B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12F7-3863-4AD3-A233-AE0E6327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EBD6-32B5-4481-8505-2FBD174D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B8857-9F4A-48D8-AD01-72825FDD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FE9EA-669F-4E8D-8973-D55E175F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E6D34-2979-4AED-AC35-0456FF7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14CF3-12A0-4198-B2BD-383EDD5F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BD60-5BC8-4913-99B4-CBC6EDBA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7B85C-E9AB-46C4-8462-E0AA2677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EDC-32E8-4C7A-8358-A7135733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BBB6-5F3A-47C2-B4E8-7A644B20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128A-3EB9-4E03-A578-E7CAA8E1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9A9D2-2272-49FB-8EAC-3B05102F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ED68A-E4FD-48D1-94C2-A0B6E5CB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3051B-531A-4BAF-BB3D-320F7D4F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8077B-0B2F-4E4E-8E57-5DE1DC33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962B9-08A4-4712-B592-2F049B60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EB47C-8381-4721-948C-6F4E1F05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7CA4C-77D4-4D25-88AB-FF12BB34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FE57-EB66-4EE4-BE3A-7500CA93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3AB6F-5918-4CFD-BDF0-37CE9F95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EA6A7-8FDD-467C-8C68-708B204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2A664-00E0-44D4-B8BA-16CFB7CC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0D5E-93DD-4183-8F84-04738DD9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4C86D-EA0C-4D50-A3A2-558527B3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557F22-12AC-4CBB-AF57-3FDC7FAD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DC8B41-08E9-470E-8CC0-A6CC72A1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71F728-9312-4E0A-BE13-F72199D4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69E051-5CA2-408F-9627-58D85BD9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BFEAD4-908B-43ED-86D4-9BE51DE7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601A-7DA4-44BE-AFFA-E84E70D4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052CD0-A6A8-4EB1-AE7D-84969B26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4BDAD9-6566-45F6-98FD-3FF277B5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CCA900-A1C1-4C97-BC45-C5CCED80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D7DDF5-F565-4469-A148-66554C87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6727BF-6D9B-4581-A65D-A46C8831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CFC046-9644-42D2-8647-820F83C3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A937EA-2399-4F4B-B2E8-2BC7A981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2C3A-82CB-451E-9737-0C9CAED2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DB90-EE2A-4AF9-A5E7-B18D11E5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B2F9-CFB4-42F6-9F1E-44FEF9DC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884F8E-1951-4F9B-845D-E04AD036C5A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D86E48-2DAC-4A7B-9FBD-3B391168BEC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F23716-95DC-4B6E-BD9D-D556F34022D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6D09D0-6996-492E-9FEC-3C69A9746B8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700397-94C6-431C-8850-52CFCD968D0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9ECCFD-16B6-413A-9315-6C60987EF73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07A8D8-3190-462F-9238-9B7639948B8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228E6D-AB70-444A-8132-03A380386B6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813B1B-6AD4-42BB-B57C-C296482E6B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806D-9930-4B62-B6C1-FF82B4BF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FB9A4F-2C55-4F18-8477-426BBC9FBEF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99B9B8-3EA3-4026-81BD-036466A0BD4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A65707-9330-48D8-8DE1-6FE851823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394-9E05-4EFD-87B6-100D8292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0EA4-9D64-4BC6-90B1-17ED3116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19C1-FEBE-468A-95FC-963291D1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2687-1804-4631-B891-98C676FD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B4F5-0FA6-437B-8F40-96E4484F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6F28-9874-45F6-9292-9F1F67C2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413-9FF2-4515-A25F-CF7DC639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95AF-DBA5-4212-8FC7-6A4AEC4D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0B5D5-22A2-4078-BD6D-3CDF00DD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3ABB-BC50-44A6-89EE-0553C243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252-50DE-400A-A99A-0966A8BE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0F234-2E21-4E95-8FCE-599F3808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24508-9CC8-4FD0-ADEA-5BFD6096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8027-631D-4FAA-9148-338B1978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E2C86-9228-44FA-8229-697B6784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39D4-5F8D-418B-851B-8706A35F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0377-FD83-4C07-AECD-2F527757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A0D46-7141-404D-846C-A390A44C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B229-736B-4791-83F7-5C3AFC51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A1B1-107B-449E-B229-A02E75E3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294-6459-4F63-B56B-1C265FA8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962-2694-4D15-B6F3-4130ABF3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7E6-EC2A-49EA-ACBB-0AFA111E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3E9-4561-459E-8070-74553D01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705-AAB7-41D8-9369-573D48E8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000" y="4191120"/>
            <a:ext cx="89154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63400" y="177480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50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63400" y="4191120"/>
            <a:ext cx="4350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964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24280" y="177480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9500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0964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524280" y="4191120"/>
            <a:ext cx="287064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476760"/>
            <a:ext cx="231120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a.a. 2013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60560" y="6476760"/>
            <a:ext cx="59673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Ingegneria del software: altern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888040" y="64767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50CB-8E9D-4C81-9788-ABE61B685388}" type="slidenum"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ttangolo 8"/>
          <p:cNvSpPr/>
          <p:nvPr/>
        </p:nvSpPr>
        <p:spPr>
          <a:xfrm>
            <a:off x="3094200" y="0"/>
            <a:ext cx="48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ttangolo 10"/>
          <p:cNvSpPr/>
          <p:nvPr/>
        </p:nvSpPr>
        <p:spPr>
          <a:xfrm>
            <a:off x="3094200" y="0"/>
            <a:ext cx="48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0"/>
          </p:nvPr>
        </p:nvSpPr>
        <p:spPr>
          <a:xfrm>
            <a:off x="177840" y="1170000"/>
            <a:ext cx="273528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a.a. 2013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11"/>
          </p:nvPr>
        </p:nvSpPr>
        <p:spPr>
          <a:xfrm>
            <a:off x="3289320" y="1170000"/>
            <a:ext cx="562608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cbcbc"/>
                </a:solidFill>
                <a:latin typeface="Times New Roman"/>
              </a:rPr>
              <a:t>Ingegneria del software: altern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12"/>
          </p:nvPr>
        </p:nvSpPr>
        <p:spPr>
          <a:xfrm>
            <a:off x="9034200" y="1170000"/>
            <a:ext cx="79524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50FC-5012-48A6-886C-67D7A8C2EB89}" type="slidenum"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ttangolo 8"/>
          <p:cNvSpPr/>
          <p:nvPr/>
        </p:nvSpPr>
        <p:spPr>
          <a:xfrm>
            <a:off x="7148520" y="0"/>
            <a:ext cx="49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ttangolo 10"/>
          <p:cNvSpPr/>
          <p:nvPr/>
        </p:nvSpPr>
        <p:spPr>
          <a:xfrm>
            <a:off x="7201080" y="0"/>
            <a:ext cx="27241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13"/>
          </p:nvPr>
        </p:nvSpPr>
        <p:spPr>
          <a:xfrm>
            <a:off x="495360" y="6476760"/>
            <a:ext cx="231120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a.a. 2013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14"/>
          </p:nvPr>
        </p:nvSpPr>
        <p:spPr>
          <a:xfrm>
            <a:off x="2860200" y="63770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Ingegneria del software: altern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15"/>
          </p:nvPr>
        </p:nvSpPr>
        <p:spPr>
          <a:xfrm>
            <a:off x="8888040" y="64767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6C8B-7B80-4DB7-B923-37AFAD45DADE}" type="slidenum"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16"/>
          </p:nvPr>
        </p:nvSpPr>
        <p:spPr>
          <a:xfrm>
            <a:off x="8888040" y="64767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A472-9C4A-4532-BBDF-3EA48D88F58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dt" idx="17"/>
          </p:nvPr>
        </p:nvSpPr>
        <p:spPr>
          <a:xfrm>
            <a:off x="495360" y="6476760"/>
            <a:ext cx="231120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a.a. 2013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18"/>
          </p:nvPr>
        </p:nvSpPr>
        <p:spPr>
          <a:xfrm>
            <a:off x="2860560" y="6476760"/>
            <a:ext cx="59673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f3f3f"/>
                </a:solidFill>
                <a:latin typeface="Times New Roman"/>
              </a:rPr>
              <a:t>Ingegneria del software: altern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Num" idx="19"/>
          </p:nvPr>
        </p:nvSpPr>
        <p:spPr>
          <a:xfrm>
            <a:off x="8888040" y="64767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481A-A5B1-40EB-9313-EA9DA2CA415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ttangolo 8"/>
          <p:cNvSpPr/>
          <p:nvPr/>
        </p:nvSpPr>
        <p:spPr>
          <a:xfrm>
            <a:off x="0" y="0"/>
            <a:ext cx="990612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ttangolo 10"/>
          <p:cNvSpPr/>
          <p:nvPr/>
        </p:nvSpPr>
        <p:spPr>
          <a:xfrm>
            <a:off x="0" y="5127480"/>
            <a:ext cx="9906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95360" y="6476760"/>
            <a:ext cx="231120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.a. 2013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60560" y="6476760"/>
            <a:ext cx="59673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Ingegneria del software: altern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888040" y="64767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6A0A-5768-4531-8DF4-328619E26BB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8"/>
          <p:cNvSpPr/>
          <p:nvPr/>
        </p:nvSpPr>
        <p:spPr>
          <a:xfrm>
            <a:off x="0" y="0"/>
            <a:ext cx="990612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10"/>
          <p:cNvSpPr/>
          <p:nvPr/>
        </p:nvSpPr>
        <p:spPr>
          <a:xfrm>
            <a:off x="0" y="2602080"/>
            <a:ext cx="990612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95360" y="6476760"/>
            <a:ext cx="231120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.a. 2013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2860560" y="6476760"/>
            <a:ext cx="59673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Ingegneria del software: altern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888040" y="64767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80B2-EFD7-426A-B488-4583350D7B3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ttangolo 9"/>
          <p:cNvSpPr/>
          <p:nvPr/>
        </p:nvSpPr>
        <p:spPr>
          <a:xfrm>
            <a:off x="0" y="1436760"/>
            <a:ext cx="990612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ttangolo 6"/>
          <p:cNvSpPr/>
          <p:nvPr/>
        </p:nvSpPr>
        <p:spPr>
          <a:xfrm>
            <a:off x="0" y="0"/>
            <a:ext cx="990612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ttangolo 8"/>
          <p:cNvSpPr/>
          <p:nvPr/>
        </p:nvSpPr>
        <p:spPr>
          <a:xfrm>
            <a:off x="3094200" y="0"/>
            <a:ext cx="4896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ttangolo 10"/>
          <p:cNvSpPr/>
          <p:nvPr/>
        </p:nvSpPr>
        <p:spPr>
          <a:xfrm>
            <a:off x="3094200" y="0"/>
            <a:ext cx="4896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df7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adf7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ff67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909465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956b4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Rectangle 4" descr=""/>
          <p:cNvPicPr/>
          <p:nvPr/>
        </p:nvPicPr>
        <p:blipFill>
          <a:blip r:embed="rId1"/>
          <a:stretch/>
        </p:blipFill>
        <p:spPr>
          <a:xfrm>
            <a:off x="706320" y="1268280"/>
            <a:ext cx="8748720" cy="326088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60520" y="5157360"/>
            <a:ext cx="875016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rbel"/>
              </a:rPr>
              <a:t>Vincenzo Gervasi, Laura Semini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rbel"/>
              </a:rPr>
              <a:t>Ingegneria del Softwar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rbel"/>
              </a:rPr>
              <a:t>Dipartimento di Informatic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rbel"/>
              </a:rPr>
              <a:t>Università di Pis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grpSp>
        <p:nvGrpSpPr>
          <p:cNvPr id="688" name="Group 5"/>
          <p:cNvGrpSpPr/>
          <p:nvPr/>
        </p:nvGrpSpPr>
        <p:grpSpPr>
          <a:xfrm>
            <a:off x="1136520" y="1628640"/>
            <a:ext cx="7632720" cy="4608720"/>
            <a:chOff x="1136520" y="1628640"/>
            <a:chExt cx="7632720" cy="4608720"/>
          </a:xfrm>
        </p:grpSpPr>
        <p:pic>
          <p:nvPicPr>
            <p:cNvPr id="689" name="Picture 8" descr=""/>
            <p:cNvPicPr/>
            <p:nvPr/>
          </p:nvPicPr>
          <p:blipFill>
            <a:blip r:embed="rId2"/>
            <a:stretch/>
          </p:blipFill>
          <p:spPr>
            <a:xfrm>
              <a:off x="1386000" y="1892160"/>
              <a:ext cx="180828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9" descr=""/>
            <p:cNvPicPr/>
            <p:nvPr/>
          </p:nvPicPr>
          <p:blipFill>
            <a:blip r:embed="rId3"/>
            <a:stretch/>
          </p:blipFill>
          <p:spPr>
            <a:xfrm>
              <a:off x="1136520" y="4618800"/>
              <a:ext cx="2099880" cy="153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10" descr=""/>
            <p:cNvPicPr/>
            <p:nvPr/>
          </p:nvPicPr>
          <p:blipFill>
            <a:blip r:embed="rId4"/>
            <a:stretch/>
          </p:blipFill>
          <p:spPr>
            <a:xfrm>
              <a:off x="3635640" y="1628640"/>
              <a:ext cx="3850200" cy="18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11" descr=""/>
            <p:cNvPicPr/>
            <p:nvPr/>
          </p:nvPicPr>
          <p:blipFill>
            <a:blip r:embed="rId5"/>
            <a:stretch/>
          </p:blipFill>
          <p:spPr>
            <a:xfrm>
              <a:off x="3635640" y="4348080"/>
              <a:ext cx="5133600" cy="188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Title 1" descr=""/>
          <p:cNvPicPr/>
          <p:nvPr/>
        </p:nvPicPr>
        <p:blipFill>
          <a:blip r:embed="rId1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 txBox="1"/>
          <p:nvPr/>
        </p:nvSpPr>
        <p:spPr>
          <a:xfrm>
            <a:off x="83808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Utilizziam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rbel"/>
              </a:rPr>
              <a:t>socket</a:t>
            </a: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 da java.n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rbel"/>
              </a:rPr>
              <a:t>stream</a:t>
            </a: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 da java.i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Lo stream realizza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la coda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il blocco in assenza di dati in inpu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Usiamo </a:t>
            </a:r>
            <a:r>
              <a:rPr b="0" i="1" lang="it-IT" sz="3200" spc="-1" strike="noStrike">
                <a:solidFill>
                  <a:srgbClr val="000000"/>
                </a:solidFill>
                <a:latin typeface="Corbel"/>
              </a:rPr>
              <a:t>Object</a:t>
            </a: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 Strea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serializza gli oggetti di tipo </a:t>
            </a:r>
            <a:r>
              <a:rPr b="0" i="1" lang="it-IT" sz="2800" spc="-1" strike="noStrike">
                <a:solidFill>
                  <a:srgbClr val="000000"/>
                </a:solidFill>
                <a:latin typeface="Corbel"/>
              </a:rPr>
              <a:t>Serializ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ff67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rbel"/>
              </a:rPr>
              <a:t>e.g., Str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" descr=""/>
          <p:cNvPicPr/>
          <p:nvPr/>
        </p:nvPicPr>
        <p:blipFill>
          <a:blip r:embed="rId2"/>
          <a:stretch/>
        </p:blipFill>
        <p:spPr>
          <a:xfrm>
            <a:off x="631800" y="1557360"/>
            <a:ext cx="8629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" descr=""/>
          <p:cNvPicPr/>
          <p:nvPr/>
        </p:nvPicPr>
        <p:blipFill>
          <a:blip r:embed="rId2"/>
          <a:stretch/>
        </p:blipFill>
        <p:spPr>
          <a:xfrm>
            <a:off x="563400" y="1700280"/>
            <a:ext cx="87789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"/>
          <p:cNvPicPr/>
          <p:nvPr/>
        </p:nvPicPr>
        <p:blipFill>
          <a:blip r:embed="rId2"/>
          <a:stretch/>
        </p:blipFill>
        <p:spPr>
          <a:xfrm>
            <a:off x="598320" y="1863720"/>
            <a:ext cx="86760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" descr=""/>
          <p:cNvPicPr/>
          <p:nvPr/>
        </p:nvPicPr>
        <p:blipFill>
          <a:blip r:embed="rId2"/>
          <a:stretch/>
        </p:blipFill>
        <p:spPr>
          <a:xfrm>
            <a:off x="704880" y="1782720"/>
            <a:ext cx="85122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2" descr=""/>
          <p:cNvPicPr/>
          <p:nvPr/>
        </p:nvPicPr>
        <p:blipFill>
          <a:blip r:embed="rId2"/>
          <a:stretch/>
        </p:blipFill>
        <p:spPr>
          <a:xfrm>
            <a:off x="546120" y="2060640"/>
            <a:ext cx="8623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2" descr=""/>
          <p:cNvPicPr/>
          <p:nvPr/>
        </p:nvPicPr>
        <p:blipFill>
          <a:blip r:embed="rId2"/>
          <a:stretch/>
        </p:blipFill>
        <p:spPr>
          <a:xfrm>
            <a:off x="1424160" y="1576440"/>
            <a:ext cx="6841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"/>
          <p:cNvPicPr/>
          <p:nvPr/>
        </p:nvPicPr>
        <p:blipFill>
          <a:blip r:embed="rId2"/>
          <a:stretch/>
        </p:blipFill>
        <p:spPr>
          <a:xfrm>
            <a:off x="560520" y="1573200"/>
            <a:ext cx="881532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" descr=""/>
          <p:cNvPicPr/>
          <p:nvPr/>
        </p:nvPicPr>
        <p:blipFill>
          <a:blip r:embed="rId2"/>
          <a:stretch/>
        </p:blipFill>
        <p:spPr>
          <a:xfrm>
            <a:off x="776160" y="1577880"/>
            <a:ext cx="820908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Titolo 1" descr=""/>
          <p:cNvPicPr/>
          <p:nvPr/>
        </p:nvPicPr>
        <p:blipFill>
          <a:blip r:embed="rId1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 txBox="1"/>
          <p:nvPr/>
        </p:nvSpPr>
        <p:spPr>
          <a:xfrm>
            <a:off x="49500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L’esempio è puramente simbolico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Nessun progettista sano di mente definirebbe un’architettura così complessa per un requisito così bana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Il requisito è un’astrazione. Una possibile istanza è la risoluzione di un problema di load balancing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Della soluzione ci interessano solo gli aspetti di comunicazione, non la funzionalità realizzata dalle componenti, che per semplicità assumiamo la più banale possibi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" descr=""/>
          <p:cNvPicPr/>
          <p:nvPr/>
        </p:nvPicPr>
        <p:blipFill>
          <a:blip r:embed="rId2"/>
          <a:stretch/>
        </p:blipFill>
        <p:spPr>
          <a:xfrm>
            <a:off x="1584360" y="1881360"/>
            <a:ext cx="63928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Title 1" descr=""/>
          <p:cNvPicPr/>
          <p:nvPr/>
        </p:nvPicPr>
        <p:blipFill>
          <a:blip r:embed="rId1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920880" y="321300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un oggetto ParmsDB è una tabell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costruita dalla riga di comando che attiva il mai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&lt;switch, valore&gt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per split, i dati sui port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get(sw) restituisce il valore associato a s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171360" y="1700280"/>
            <a:ext cx="95630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" descr=""/>
          <p:cNvPicPr/>
          <p:nvPr/>
        </p:nvPicPr>
        <p:blipFill>
          <a:blip r:embed="rId2"/>
          <a:stretch/>
        </p:blipFill>
        <p:spPr>
          <a:xfrm>
            <a:off x="128520" y="1916280"/>
            <a:ext cx="96202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" descr=""/>
          <p:cNvPicPr/>
          <p:nvPr/>
        </p:nvPicPr>
        <p:blipFill>
          <a:blip r:embed="rId2"/>
          <a:stretch/>
        </p:blipFill>
        <p:spPr>
          <a:xfrm>
            <a:off x="396720" y="1700280"/>
            <a:ext cx="9128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4" descr=""/>
          <p:cNvPicPr/>
          <p:nvPr/>
        </p:nvPicPr>
        <p:blipFill>
          <a:blip r:embed="rId1"/>
          <a:stretch/>
        </p:blipFill>
        <p:spPr>
          <a:xfrm>
            <a:off x="704880" y="1557360"/>
            <a:ext cx="8335800" cy="4608360"/>
          </a:xfrm>
          <a:prstGeom prst="rect">
            <a:avLst/>
          </a:prstGeom>
          <a:ln w="0">
            <a:noFill/>
          </a:ln>
        </p:spPr>
      </p:pic>
      <p:pic>
        <p:nvPicPr>
          <p:cNvPr id="721" name="Title 1" descr=""/>
          <p:cNvPicPr/>
          <p:nvPr/>
        </p:nvPicPr>
        <p:blipFill>
          <a:blip r:embed="rId2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838080" y="606060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rbel"/>
              </a:rPr>
              <a:t>grigio: modifiche al comportamento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orbel"/>
              </a:rPr>
              <a:t>bordo spesso: diversa implementazione pipe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488880" y="1628640"/>
            <a:ext cx="8961480" cy="4464360"/>
          </a:xfrm>
          <a:prstGeom prst="rect">
            <a:avLst/>
          </a:prstGeom>
          <a:ln w="0">
            <a:noFill/>
          </a:ln>
        </p:spPr>
      </p:pic>
      <p:pic>
        <p:nvPicPr>
          <p:cNvPr id="724" name="Title 6" descr=""/>
          <p:cNvPicPr/>
          <p:nvPr/>
        </p:nvPicPr>
        <p:blipFill>
          <a:blip r:embed="rId2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838080" y="616572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grigio: responsabilità azienda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Title 1" descr=""/>
          <p:cNvPicPr/>
          <p:nvPr/>
        </p:nvPicPr>
        <p:blipFill>
          <a:blip r:embed="rId1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415800" y="167328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94c6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rbel"/>
              </a:rPr>
              <a:t>Uno script di costruzione globa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71685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rbel"/>
              </a:rPr>
              <a:t>lancia le componenti sulle macchine scel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>
            <a:off x="560520" y="3075120"/>
            <a:ext cx="88930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Immagine 5" descr=""/>
          <p:cNvPicPr/>
          <p:nvPr/>
        </p:nvPicPr>
        <p:blipFill>
          <a:blip r:embed="rId1"/>
          <a:srcRect l="0" t="4735" r="0" b="0"/>
          <a:stretch/>
        </p:blipFill>
        <p:spPr>
          <a:xfrm>
            <a:off x="2643120" y="1557360"/>
            <a:ext cx="3975120" cy="1871640"/>
          </a:xfrm>
          <a:prstGeom prst="rect">
            <a:avLst/>
          </a:prstGeom>
          <a:ln w="0">
            <a:noFill/>
          </a:ln>
        </p:spPr>
      </p:pic>
      <p:pic>
        <p:nvPicPr>
          <p:cNvPr id="669" name="Title 1" descr=""/>
          <p:cNvPicPr/>
          <p:nvPr/>
        </p:nvPicPr>
        <p:blipFill>
          <a:blip r:embed="rId2"/>
          <a:stretch/>
        </p:blipFill>
        <p:spPr>
          <a:xfrm>
            <a:off x="493560" y="158760"/>
            <a:ext cx="8918640" cy="12492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" descr=""/>
          <p:cNvPicPr/>
          <p:nvPr/>
        </p:nvPicPr>
        <p:blipFill>
          <a:blip r:embed="rId3"/>
          <a:stretch/>
        </p:blipFill>
        <p:spPr>
          <a:xfrm>
            <a:off x="560520" y="3287880"/>
            <a:ext cx="842472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"/>
          <p:cNvPicPr/>
          <p:nvPr/>
        </p:nvPicPr>
        <p:blipFill>
          <a:blip r:embed="rId2"/>
          <a:stretch/>
        </p:blipFill>
        <p:spPr>
          <a:xfrm>
            <a:off x="490680" y="1700280"/>
            <a:ext cx="899928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"/>
          <p:cNvPicPr/>
          <p:nvPr/>
        </p:nvPicPr>
        <p:blipFill>
          <a:blip r:embed="rId2"/>
          <a:stretch/>
        </p:blipFill>
        <p:spPr>
          <a:xfrm>
            <a:off x="1281240" y="1498680"/>
            <a:ext cx="7488000" cy="41162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"/>
          <p:cNvPicPr/>
          <p:nvPr/>
        </p:nvPicPr>
        <p:blipFill>
          <a:blip r:embed="rId3"/>
          <a:stretch/>
        </p:blipFill>
        <p:spPr>
          <a:xfrm>
            <a:off x="2936880" y="5551560"/>
            <a:ext cx="422892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Title 1" descr=""/>
          <p:cNvPicPr/>
          <p:nvPr/>
        </p:nvPicPr>
        <p:blipFill>
          <a:blip r:embed="rId1"/>
          <a:stretch/>
        </p:blipFill>
        <p:spPr>
          <a:xfrm>
            <a:off x="560520" y="274680"/>
            <a:ext cx="8686800" cy="11462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" descr=""/>
          <p:cNvPicPr/>
          <p:nvPr/>
        </p:nvPicPr>
        <p:blipFill>
          <a:blip r:embed="rId2"/>
          <a:stretch/>
        </p:blipFill>
        <p:spPr>
          <a:xfrm>
            <a:off x="631800" y="1490760"/>
            <a:ext cx="856944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" descr=""/>
          <p:cNvPicPr/>
          <p:nvPr/>
        </p:nvPicPr>
        <p:blipFill>
          <a:blip r:embed="rId2"/>
          <a:stretch/>
        </p:blipFill>
        <p:spPr>
          <a:xfrm>
            <a:off x="776160" y="1512720"/>
            <a:ext cx="8353440" cy="2637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" descr=""/>
          <p:cNvPicPr/>
          <p:nvPr/>
        </p:nvPicPr>
        <p:blipFill>
          <a:blip r:embed="rId3"/>
          <a:stretch/>
        </p:blipFill>
        <p:spPr>
          <a:xfrm>
            <a:off x="808200" y="4149720"/>
            <a:ext cx="8508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Title 1" descr=""/>
          <p:cNvPicPr/>
          <p:nvPr/>
        </p:nvPicPr>
        <p:blipFill>
          <a:blip r:embed="rId1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" descr=""/>
          <p:cNvPicPr/>
          <p:nvPr/>
        </p:nvPicPr>
        <p:blipFill>
          <a:blip r:embed="rId2"/>
          <a:stretch/>
        </p:blipFill>
        <p:spPr>
          <a:xfrm>
            <a:off x="488880" y="1557360"/>
            <a:ext cx="8917200" cy="2016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3" descr=""/>
          <p:cNvPicPr/>
          <p:nvPr/>
        </p:nvPicPr>
        <p:blipFill>
          <a:blip r:embed="rId3"/>
          <a:stretch/>
        </p:blipFill>
        <p:spPr>
          <a:xfrm>
            <a:off x="631800" y="3429000"/>
            <a:ext cx="8583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488880" y="1484280"/>
            <a:ext cx="8971200" cy="1943280"/>
          </a:xfrm>
          <a:prstGeom prst="rect">
            <a:avLst/>
          </a:prstGeom>
          <a:ln w="0">
            <a:noFill/>
          </a:ln>
        </p:spPr>
      </p:pic>
      <p:pic>
        <p:nvPicPr>
          <p:cNvPr id="685" name="Title 1" descr=""/>
          <p:cNvPicPr/>
          <p:nvPr/>
        </p:nvPicPr>
        <p:blipFill>
          <a:blip r:embed="rId2"/>
          <a:stretch/>
        </p:blipFill>
        <p:spPr>
          <a:xfrm>
            <a:off x="493560" y="152280"/>
            <a:ext cx="8918640" cy="1249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5" descr=""/>
          <p:cNvPicPr/>
          <p:nvPr/>
        </p:nvPicPr>
        <p:blipFill>
          <a:blip r:embed="rId3"/>
          <a:stretch/>
        </p:blipFill>
        <p:spPr>
          <a:xfrm>
            <a:off x="312840" y="3357720"/>
            <a:ext cx="92120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14:26:57Z</dcterms:created>
  <dc:creator>tino cortesi</dc:creator>
  <dc:description/>
  <dc:language>en-US</dc:language>
  <cp:lastModifiedBy>Laura Semini</cp:lastModifiedBy>
  <cp:lastPrinted>2016-05-04T08:33:58Z</cp:lastPrinted>
  <dcterms:modified xsi:type="dcterms:W3CDTF">2016-05-04T08:34:57Z</dcterms:modified>
  <cp:revision>456</cp:revision>
  <dc:subject>Cap 1</dc:subject>
  <dc:title>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dsi.unive.it/~cortesi/SE/</vt:lpwstr>
  </property>
  <property fmtid="{D5CDD505-2E9C-101B-9397-08002B2CF9AE}" pid="9" name="LinkColor">
    <vt:r8>16711782</vt:r8>
  </property>
  <property fmtid="{D5CDD505-2E9C-101B-9397-08002B2CF9AE}" pid="10" name="MailAddress">
    <vt:lpwstr>ingsw@dsi.unive.it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Documenti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